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71BF-5B5B-4423-92FE-037C6616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20AA-FA50-4FE1-A390-0B2E7870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2FD5-D55A-4994-9CE8-FA7CE3E7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41C-BB63-4930-A6DC-7DDF854E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8472-2B15-4098-8093-857A644F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2414-8A7F-4847-80E3-6A713809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A7D-D781-4BFC-B92F-CF8D8C78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C55-B53A-48F9-BE1C-2542E144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63A9-375F-4D10-A825-7CBACD21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63F-A6A9-47CD-BCB8-C614BD52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40DA-85EE-46C2-8F4F-5A946DF9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CFA-6C74-45C9-979E-027CD33C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C8E5-3794-4131-9A44-F08AB43EF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blc1519f03" descr=""/>
          <p:cNvPicPr/>
          <p:nvPr/>
        </p:nvPicPr>
        <p:blipFill>
          <a:blip r:embed="rId1"/>
          <a:stretch/>
        </p:blipFill>
        <p:spPr>
          <a:xfrm>
            <a:off x="4724280" y="5335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42" name="Mblasp10f04" descr=""/>
          <p:cNvPicPr/>
          <p:nvPr/>
        </p:nvPicPr>
        <p:blipFill>
          <a:blip r:embed="rId2"/>
          <a:stretch/>
        </p:blipFill>
        <p:spPr>
          <a:xfrm>
            <a:off x="152280" y="369576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53160" y="7632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 cleaning: UV o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blasp10f02" descr=""/>
          <p:cNvPicPr/>
          <p:nvPr/>
        </p:nvPicPr>
        <p:blipFill>
          <a:blip r:embed="rId3"/>
          <a:stretch/>
        </p:blipFill>
        <p:spPr>
          <a:xfrm>
            <a:off x="152280" y="55260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8520" y="5634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d before UV ozone clea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8880" y="373392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d w. better tip (same da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71760" y="609480"/>
            <a:ext cx="27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cleaning (and 5 days la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30440" y="380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It seems it does work a bit at lea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97720" y="4114800"/>
            <a:ext cx="4112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ure used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nse tip in etha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UV ozone cleaner for 10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oor room 828, contact person Rob Zonderv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nse with ethanol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d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uspect that it is the last ethanol rinse that is importa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562720"/>
            <a:ext cx="3809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ple is MBL/MASP complexes. It seems we only see MASP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ensity is probably very low due to a rinse with buffer before DI water rins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haps complexes sedimented due to 6 min ultracentrifugation or they wre washed o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32280" y="6485040"/>
            <a:ext cx="141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nriette October 15 200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5:43:30Z</dcterms:created>
  <dc:creator>Henriette Jensenius</dc:creator>
  <dc:description/>
  <dc:language>en-US</dc:language>
  <cp:lastModifiedBy>hjensen</cp:lastModifiedBy>
  <dcterms:modified xsi:type="dcterms:W3CDTF">2003-07-11T09:04:22Z</dcterms:modified>
  <cp:revision>5</cp:revision>
  <dc:subject/>
  <dc:title>PowerPoint Presentation</dc:title>
</cp:coreProperties>
</file>